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26144"/>
        <c:axId val="8434461"/>
      </c:barChart>
      <c:catAx>
        <c:axId val="82526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4461"/>
        <c:crosses val="autoZero"/>
        <c:auto val="1"/>
        <c:lblAlgn val="ctr"/>
        <c:lblOffset val="100"/>
        <c:noMultiLvlLbl val="0"/>
      </c:catAx>
      <c:valAx>
        <c:axId val="8434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26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B73-8943-4C36-8A00-C5984211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8E3-9461-4FA6-8AB2-38FAE32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B07-0E5F-45BF-899B-0F4CF3FE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2D4-8D23-4A95-8F98-EE01A7DF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7AB-B0FF-4ABD-AD30-62B9F03C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AE4-D635-4C17-A134-572C6903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FA9-D4B7-4B69-9978-2878BD58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410-035F-4685-914C-D4FF7E6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AE7-9CF4-4354-A916-31D4D46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B05-61E8-447F-8BC4-4DF69BB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C5B-E0A7-4A08-AB2D-BDC6683C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93D-A9B5-466B-BB9E-0B8976D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1CD2-744A-4811-89DC-FAE9BE273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