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89260"/>
        <c:axId val="52303530"/>
      </c:barChart>
      <c:catAx>
        <c:axId val="92789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03530"/>
        <c:crosses val="autoZero"/>
        <c:auto val="1"/>
        <c:lblAlgn val="ctr"/>
        <c:lblOffset val="100"/>
        <c:noMultiLvlLbl val="0"/>
      </c:catAx>
      <c:valAx>
        <c:axId val="52303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9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480-28D9-448D-9FD1-2A81A091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B94-DDBF-49B8-B8C2-F87E7516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ECA-0D4C-49E7-BDCF-8BCD6EC2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A78-8540-4712-B112-C09B2ACA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483-156A-4A7E-8481-75D9AF71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CDB-E082-41A7-82ED-CF65BD09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30C-D032-4ADC-80E1-25A1A845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504-7311-4BFE-8E06-DEE4D24D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B25-1B3D-4374-8A11-AA0C0E8C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080-D0CA-456F-BF00-639EDFE2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612-5BE4-46CE-BC14-F76BFD2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8DB-2E18-409F-B83E-4A9A6BF0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BABD5-0593-4E5E-A5D9-0EF88E032F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