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93728"/>
        <c:axId val="1695420"/>
      </c:barChart>
      <c:catAx>
        <c:axId val="63193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420"/>
        <c:crosses val="autoZero"/>
        <c:auto val="1"/>
        <c:lblAlgn val="ctr"/>
        <c:lblOffset val="100"/>
        <c:noMultiLvlLbl val="0"/>
      </c:catAx>
      <c:valAx>
        <c:axId val="1695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93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4EA-F2B9-40EE-A977-227E9DD9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CD1-5817-46B4-9686-3B0B073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B39-63C1-49A2-93F1-EE0F2FC7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E9F-E30D-4B96-9230-8507F9B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21D-9044-4239-83F0-22826979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D50-5DF8-4A67-9F42-DB68FDED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21D-0674-4532-A94D-31F17757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135-C684-44BE-97D4-388437B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630-9C98-480C-88A6-A601D7E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FC2-EEF6-496A-A866-8168E41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DDF-489B-4F79-99C4-C8789D45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E5E-5B35-4177-A1C2-FB510CF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C1798-717E-4BEB-B86A-684BA9BC2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