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70516"/>
        <c:axId val="98973785"/>
      </c:barChart>
      <c:catAx>
        <c:axId val="417705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73785"/>
        <c:crosses val="autoZero"/>
        <c:auto val="1"/>
        <c:lblAlgn val="ctr"/>
        <c:lblOffset val="100"/>
        <c:noMultiLvlLbl val="0"/>
      </c:catAx>
      <c:valAx>
        <c:axId val="98973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705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A86-0785-458C-9DA9-7B546630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79D-7ECB-4E95-8041-66419294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84B0-2106-4835-9620-16757A77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83C-F944-49A4-B46A-E289347B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CB6-A4A9-43D1-BD78-FD4C5C34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59F-C304-4A77-BA20-3CC84325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6B09-93F7-47EF-B1E9-1ED42D53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744-A827-4A4B-9ED2-EABB40EA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73B-E1E2-483C-85DD-298B6A5A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8AA9-96FF-4210-B08D-904F672D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E00-C93D-45F0-BC13-4AA020DB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676-51A8-4E49-954C-96EAACF1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4724C-69E5-4905-981E-C8EC4C411D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