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31310"/>
        <c:axId val="67046255"/>
      </c:barChart>
      <c:catAx>
        <c:axId val="82331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6255"/>
        <c:crosses val="autoZero"/>
        <c:auto val="1"/>
        <c:lblAlgn val="ctr"/>
        <c:lblOffset val="100"/>
        <c:noMultiLvlLbl val="0"/>
      </c:catAx>
      <c:valAx>
        <c:axId val="67046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31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FCF-C7AC-4DCE-B28C-FEC97C2B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1A7-BCDB-4DB5-9744-BC86C031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BBF-32AA-4362-9BA5-B87F86B2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AC1-3C99-4BA6-AF38-BA3413DB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99E-1350-4096-908E-D6692386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2AA-FA39-4D64-B90F-37954A53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3BE-928F-407C-AF49-D2B8F64C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E41-F4CC-48E3-BB50-8EA0D57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50C-4E2D-4DEE-B8CE-AB0E762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95C-9B44-4380-B835-3ABD30B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237-43AA-46FF-A4A9-39B4EF7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B87-F3C9-447E-A52C-4FE16D4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67696-FE5E-41AE-9DB0-49562D5D1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