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9082252"/>
        <c:axId val="64488100"/>
      </c:barChart>
      <c:catAx>
        <c:axId val="4908225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488100"/>
        <c:crosses val="autoZero"/>
        <c:auto val="1"/>
        <c:lblAlgn val="ctr"/>
        <c:lblOffset val="100"/>
        <c:noMultiLvlLbl val="0"/>
      </c:catAx>
      <c:valAx>
        <c:axId val="6448810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08225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9B204-9855-4F86-82D5-9F62C20A4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EB005-7E49-42EC-B195-870C20253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E6375-900C-4488-A207-BF885BF57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47C65-3FE0-4686-9FD4-B62BF2AFA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A29FF-DDBF-4FBF-B2CA-A00368D9D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17B42-9968-43AF-9C0C-B61101026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4F0A1-7950-4213-BC35-B4987DEE9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828FB-1913-458B-B203-4AA42B249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D3C67-2272-4521-89FE-BB5A8ADAD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06166-8E51-41C4-8303-B8D163A5E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C2A5C-8F44-4B24-B02F-076EEE134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98BF4-3078-45A0-A073-DB6F0BFA1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4AB466-FCA4-4235-A885-608D8D21BB6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