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5635617"/>
        <c:axId val="80842617"/>
      </c:barChart>
      <c:catAx>
        <c:axId val="2563561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842617"/>
        <c:crosses val="autoZero"/>
        <c:auto val="1"/>
        <c:lblAlgn val="ctr"/>
        <c:lblOffset val="100"/>
        <c:noMultiLvlLbl val="0"/>
      </c:catAx>
      <c:valAx>
        <c:axId val="8084261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63561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802D2-C300-4646-ACDD-15C579D34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6C0FB9-2CDA-47C0-8337-43359059DC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C8026-F188-4330-BAB1-F3B5FA7E8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003C7-254D-4784-8A09-593E2A8020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EE6BF-01E0-48DE-A6F3-D4C3DDD03D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055D0-76F7-40EC-9ECC-0A646E9506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2D680-DAB7-48AD-B32C-3E8C8D325D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2BBC0-0754-47F6-A7AC-B06B2F7386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19A1F-8F8E-45A4-A26F-22BEBA431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02145-B8B6-4F5B-B943-FEFC76045C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C28B6-29C3-41F7-9D96-DB22E89262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159B1-8213-4551-A674-BBF2354E8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334FE0-49E1-4D86-B3C6-A10B7B31A52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