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843463"/>
        <c:axId val="97851426"/>
      </c:barChart>
      <c:catAx>
        <c:axId val="158434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51426"/>
        <c:crosses val="autoZero"/>
        <c:auto val="1"/>
        <c:lblAlgn val="ctr"/>
        <c:lblOffset val="100"/>
        <c:noMultiLvlLbl val="0"/>
      </c:catAx>
      <c:valAx>
        <c:axId val="978514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434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9562-6AA8-47C3-82DD-CC4B8143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48FA-00A0-49F5-9990-B2D2FEF9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D413-107F-416C-9FDE-48048A40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F3B5-E1FD-41EF-8922-52F1A7A4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690F-6CFF-4C08-BC55-B3A1858C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201B-6E34-419A-8319-8D2FBD69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EA96-5C18-4D24-8EEA-B0B3C2B2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2672-4A39-4254-91C2-3A6356D1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B1D8-AA62-4332-A8C0-930D8068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1BF3-0FDA-4696-AD49-34BEAD1E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AAD0-836A-4B24-8633-7F13B468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E933-CB07-4700-A27C-1FC23AB4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F21C2-71DC-4AC8-A24E-B4E7B4A1A3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