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42691"/>
        <c:axId val="79007797"/>
      </c:barChart>
      <c:catAx>
        <c:axId val="66142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07797"/>
        <c:crosses val="autoZero"/>
        <c:auto val="1"/>
        <c:lblAlgn val="ctr"/>
        <c:lblOffset val="100"/>
        <c:noMultiLvlLbl val="0"/>
      </c:catAx>
      <c:valAx>
        <c:axId val="79007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42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B18-9D83-4E80-BEA3-69A363AE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3D2-6B9B-460B-A518-86368858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DA9-8BB7-4B98-9C9E-31EECAFF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07DE-D4F2-4740-865F-E585862B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3F9-8E65-4664-909E-B28DA4E3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529-5F9A-49A2-9732-EA08D25D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EBE-F22E-4BD8-8B66-FF49AB0C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B8B-F06C-4577-8DFD-849E5D1D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A33-5F43-4D9D-A447-B1C9990E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4D7-7430-462F-8C02-0223537B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784-4F16-4B87-9934-89ECE481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88F-4CFB-421F-A65B-9F495AEF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098DC-1165-4639-B1BB-A68A0DC372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