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04521"/>
        <c:axId val="22089338"/>
      </c:barChart>
      <c:catAx>
        <c:axId val="72504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89338"/>
        <c:crosses val="autoZero"/>
        <c:auto val="1"/>
        <c:lblAlgn val="ctr"/>
        <c:lblOffset val="100"/>
        <c:noMultiLvlLbl val="0"/>
      </c:catAx>
      <c:valAx>
        <c:axId val="22089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04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529-45FF-4858-B380-BE492C36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A58-0332-475C-87C8-15E224A4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198-A31F-4803-A238-938E07E3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C39-AEA9-44B8-B8D7-27C7BA17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A71-1016-4207-9608-D0E431F3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11B-A013-4359-80D0-7BF51C54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E07-FBC7-4560-983A-80612BB6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EFC-84DA-4C83-8E27-80670491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86A-6598-4371-9509-E14A7FE5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01A-B125-4B8B-AA44-755EB71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0D0-25FA-477C-98DE-DEF36C52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CD5-0DB9-4894-831D-2DF69158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0C2C6-F295-4985-91DD-52FCDFF3DE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