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75920"/>
        <c:axId val="58276844"/>
      </c:barChart>
      <c:catAx>
        <c:axId val="59675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6844"/>
        <c:crosses val="autoZero"/>
        <c:auto val="1"/>
        <c:lblAlgn val="ctr"/>
        <c:lblOffset val="100"/>
        <c:noMultiLvlLbl val="0"/>
      </c:catAx>
      <c:valAx>
        <c:axId val="58276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5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8C9-DEEF-4454-9273-84A4E203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F5A-73F4-41C8-A63A-0E2AC23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3BE-7FE7-4E1D-88A1-86B6E152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6F7-AF59-4488-9D20-5F2EA847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E11-B3B6-48C4-8917-27C46E3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6D-95E1-4E38-8AB3-2D632CBB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4CC-853A-4A14-B013-1FDEAA3D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E36-8C64-4CBD-8A7A-B35DB38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A46-18E0-4680-9466-61B4534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C57-C9BD-4EA2-89F5-6916373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FDA-46F1-4397-94F8-BCD34AF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6B9-55EA-4070-BD73-BB7B093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1C051-5A63-427C-B685-79505FFB1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