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86746"/>
        <c:axId val="65112965"/>
      </c:barChart>
      <c:catAx>
        <c:axId val="26686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12965"/>
        <c:crosses val="autoZero"/>
        <c:auto val="1"/>
        <c:lblAlgn val="ctr"/>
        <c:lblOffset val="100"/>
        <c:noMultiLvlLbl val="0"/>
      </c:catAx>
      <c:valAx>
        <c:axId val="65112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86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464-73CB-4CDC-9095-FD4A24FA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4DF-0F76-4E5E-B321-2323BE84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E75-48B6-480A-A16C-4B9BBE80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6F9-DD87-46A4-AA8D-AA2DF6DB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63E-E1B0-4B63-9D15-3D8E2064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EBB-4A88-48ED-BC46-2A6BFC33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BA1-11A0-4735-9617-402FF2D2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0CA-1226-43D1-A93A-67008AC8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D3B-E6C1-4180-991F-CE5CE041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357-7175-4DC0-881D-792CFA9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DB0-6D75-47EC-BD5F-7672EE45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DA5-C4CB-4D3A-9831-0DAAD627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F0D2B-40FF-4A4D-B5C0-E435B3A6C4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