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49208"/>
        <c:axId val="80865248"/>
      </c:barChart>
      <c:catAx>
        <c:axId val="446492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65248"/>
        <c:crosses val="autoZero"/>
        <c:auto val="1"/>
        <c:lblAlgn val="ctr"/>
        <c:lblOffset val="100"/>
        <c:noMultiLvlLbl val="0"/>
      </c:catAx>
      <c:valAx>
        <c:axId val="808652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492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7C15-6FC6-4C43-BB6F-ECB584A6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7040-F220-4350-B1A7-91A3E571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0CC-8D00-4588-9B7E-78839C07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424-C17B-4D3B-ADBE-35236BA6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B91-B892-4D04-8008-A3595FE8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9BF9-F94A-4082-9175-94E0C81C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CDD-327B-482F-A1B0-129C30AB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8B4-55BB-4188-8BFE-1C85F921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2128-CAC8-41AE-BB35-28BD9919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21CC-9421-44A7-BDFC-BA7470AA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AB1-3195-456E-8515-DEF4554C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271-77F8-4653-B8C7-FC37331A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2DDC3-0D40-49C9-8DB7-825DDC46E8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