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2349"/>
        <c:axId val="4495624"/>
      </c:barChart>
      <c:catAx>
        <c:axId val="9782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5624"/>
        <c:crosses val="autoZero"/>
        <c:auto val="1"/>
        <c:lblAlgn val="ctr"/>
        <c:lblOffset val="100"/>
        <c:noMultiLvlLbl val="0"/>
      </c:catAx>
      <c:valAx>
        <c:axId val="4495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2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997-EF36-4EE5-9E0D-E08F7DD3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F5C-1B8B-4A44-AC27-217E65AC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7D5-AEE4-4A6B-9EB2-AD12AB05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983-CF20-434E-BD6C-27E97784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782-1420-4416-9596-4773EC97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4E6-1243-4D79-91CE-525C912B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A43-4C89-4CF1-8442-8330CD29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5E4-6D57-4354-8E20-A76FBC1F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CB0-B73F-4E00-B692-728A5856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750-2053-4933-822F-154F63D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B2C-F88E-4DEA-A6A6-3C441C6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549-8674-424D-A02E-B4566968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25C0C-BD51-4FA8-9543-220CF9C391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