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34861"/>
        <c:axId val="7349174"/>
      </c:barChart>
      <c:catAx>
        <c:axId val="371348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9174"/>
        <c:crosses val="autoZero"/>
        <c:auto val="1"/>
        <c:lblAlgn val="ctr"/>
        <c:lblOffset val="100"/>
        <c:noMultiLvlLbl val="0"/>
      </c:catAx>
      <c:valAx>
        <c:axId val="73491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348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21F-08DF-45CA-A713-DBDCDE1B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817-2117-48C5-9618-601726A1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52E-B27C-4E09-90BC-DF92A0FC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226-73F2-4414-BD22-E0FAE73E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671-7E5D-480F-A4D4-DC238C03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CE46-00ED-4024-80E3-DFC2FA27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0C1-3F66-45BC-958E-F86806A6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67B3-F956-40D0-B1E0-7E05713E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D4D-AA9D-4624-83B8-50D4BA5F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C01-5247-4E25-8110-F884E252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B3B2-C936-41F4-A59B-F804E499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F18-E801-4107-9D53-F10F71E0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A5A16-2460-4E40-A772-9A80E6DE75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