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944604"/>
        <c:axId val="6044280"/>
      </c:barChart>
      <c:catAx>
        <c:axId val="179446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4280"/>
        <c:crosses val="autoZero"/>
        <c:auto val="1"/>
        <c:lblAlgn val="ctr"/>
        <c:lblOffset val="100"/>
        <c:noMultiLvlLbl val="0"/>
      </c:catAx>
      <c:valAx>
        <c:axId val="60442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446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5AC-729E-4654-96A2-3C53C7B6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4D0D-9F85-41D1-9F8F-9D58DAE2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AE2-EFE0-4923-BAB7-36691F33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F044-56E8-414D-BCA0-9559BCFD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450-5235-4B7A-8FAC-84F8F9EF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466D-F751-458E-A3C5-6478DD22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51C1-9930-4268-803B-A789860B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901C-AEBD-49BE-BBD9-9EE09BCB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789-C21A-47E4-97B0-AFF65AC2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78F-661D-476C-8ABD-A8C8EF6C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F87C-20E0-4E3B-8DDB-A2108891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B5F-DED5-4DA0-9516-20351F3C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6D5EC-4CA9-451A-954C-4CA4C8DFE2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