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95898"/>
        <c:axId val="47818130"/>
      </c:barChart>
      <c:catAx>
        <c:axId val="95195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18130"/>
        <c:crosses val="autoZero"/>
        <c:auto val="1"/>
        <c:lblAlgn val="ctr"/>
        <c:lblOffset val="100"/>
        <c:noMultiLvlLbl val="0"/>
      </c:catAx>
      <c:valAx>
        <c:axId val="47818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95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218-1848-490B-92AA-EA042F8F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9AB-A639-42D6-A06E-2227659A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BCF-85F9-404E-92BE-2F505372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414-297B-447B-A1B7-808A5112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75B-93D9-4694-99B0-38A32217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1BF-7DBD-4E7B-867F-10DC238D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EBC-DD24-40F7-9BB1-AAE89A30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7A0-7B5B-49CC-8DDA-91EF8C3B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7C4-BBC6-4907-8B3A-21DB152D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70D-22FC-4B70-91F7-A06D5E5C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A77-E4F9-4504-8D3E-A04081EC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90F-2709-4322-9071-E4BFF34F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F61B8-231A-43D5-B720-01F02DEE72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