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69535"/>
        <c:axId val="33572385"/>
      </c:barChart>
      <c:catAx>
        <c:axId val="89669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72385"/>
        <c:crosses val="autoZero"/>
        <c:auto val="1"/>
        <c:lblAlgn val="ctr"/>
        <c:lblOffset val="100"/>
        <c:noMultiLvlLbl val="0"/>
      </c:catAx>
      <c:valAx>
        <c:axId val="33572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69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F52-7C25-4A65-A3C8-8D789B55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1FC-1489-4934-9233-3811E2D7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45E-1C61-4352-88F8-0380E868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E9F-61ED-43CF-B7F2-A0950CCE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832-A71C-42AD-8BFF-EE3193D2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CFD-5515-42E4-A455-9E530100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0DF-139A-4DDF-90D2-F0B40D9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245-DCA9-44AD-941F-F0FD5E9D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8FB-8066-4A14-8913-86AB7B62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9BD-71A6-409A-ABC7-CCF5415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357-3AE1-4200-BD5E-3EF96A9A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FCB-E543-423B-AC02-2E8C7EAD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C1CBC-D6F0-41C0-9CA0-1F0BC929BF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