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879002"/>
        <c:axId val="28257663"/>
      </c:barChart>
      <c:catAx>
        <c:axId val="778790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257663"/>
        <c:crosses val="autoZero"/>
        <c:auto val="1"/>
        <c:lblAlgn val="ctr"/>
        <c:lblOffset val="100"/>
        <c:noMultiLvlLbl val="0"/>
      </c:catAx>
      <c:valAx>
        <c:axId val="282576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8790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CD26-9BE7-48F1-B951-B8249991C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4483-09A2-4260-ACBB-46731437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E279-14FD-4477-9005-D44C20A97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0C17-96F8-4CBA-B3D3-E6DDFA7E8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5703-EF64-484F-AE07-1F1091E8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A30F-E5ED-4003-B7F4-D537073A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F871-B3C3-4EB9-8D6A-B12C57A0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33F3-C6BB-4C30-A6FA-F658B7E8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56C8-348C-43C0-AD2C-BFD2A284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F697-1F82-4DCE-A24B-B3AEF06D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E871-C8CA-4D5B-BA4C-4A540CDC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EADE-8994-440E-B13F-3B872F25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05360E-5EAC-4B94-822A-5184F0CED8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