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18553"/>
        <c:axId val="38247374"/>
      </c:barChart>
      <c:catAx>
        <c:axId val="35418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47374"/>
        <c:crosses val="autoZero"/>
        <c:auto val="1"/>
        <c:lblAlgn val="ctr"/>
        <c:lblOffset val="100"/>
        <c:noMultiLvlLbl val="0"/>
      </c:catAx>
      <c:valAx>
        <c:axId val="38247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18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79D-0E72-410C-ABBE-A18070CA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4AD-2E3B-4239-B213-501615E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A95-CC64-442D-8234-3BB67A70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80A-003D-4BEC-A34F-23AEC6DE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250-0877-4047-A999-C18EF590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437-8F5A-4648-A717-F1BF0C17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4D4-28A4-42CF-BFE6-886FE0F6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C49-7E07-4D1D-BA52-842EF642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D62-5516-4196-9507-E3645570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144-9411-4565-A1CF-A1C822A4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C48-68C2-451B-96A0-05695261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C3C-652D-4429-84DD-A058338D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D5440-B341-4A1C-BA84-2925C5886B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