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73446"/>
        <c:axId val="86841569"/>
      </c:barChart>
      <c:catAx>
        <c:axId val="60673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41569"/>
        <c:crosses val="autoZero"/>
        <c:auto val="1"/>
        <c:lblAlgn val="ctr"/>
        <c:lblOffset val="100"/>
        <c:noMultiLvlLbl val="0"/>
      </c:catAx>
      <c:valAx>
        <c:axId val="86841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73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050-B58B-4C2F-BD47-EA5FC5FF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8BA-85F9-48DE-98B0-2F63D9EB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34D-2C1C-4E0D-94A7-030E8D06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1ED-CDEE-4118-AFED-25E7D000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A485-D50C-48DB-BDE6-CE61B87C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8B75-617B-42B8-8678-DF9E9FFA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725-D011-445F-A7C7-0F1116C3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5E5-F754-454B-9513-FDF1F427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F0A-E0DD-4E56-88B3-D8D309B0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3BDD-BF0A-48F6-ACFA-19B08B6D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C0A-8BF5-4731-A58F-A81A2C02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F25B-C9A9-4EDE-90BC-E00F1E19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59E7A-2E7F-48E1-83EA-22D93687FB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