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40885"/>
        <c:axId val="72838737"/>
      </c:barChart>
      <c:catAx>
        <c:axId val="939408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38737"/>
        <c:crosses val="autoZero"/>
        <c:auto val="1"/>
        <c:lblAlgn val="ctr"/>
        <c:lblOffset val="100"/>
        <c:noMultiLvlLbl val="0"/>
      </c:catAx>
      <c:valAx>
        <c:axId val="72838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408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E46-0DDB-467F-AED4-E31F08A1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6B0A-2CE8-4630-8F51-A325F241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EC6C-1006-4290-A4B7-EB047C70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F9D-245F-45D9-8ED7-8EEB8AF56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636-6959-4F34-8A9A-3F3D2422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179-4227-4190-B157-D8A5AC3C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88D-9E78-44FF-B19D-87EE2B29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BE6-0371-4103-85D3-ACD934D9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D625-74E0-472E-B639-04A11B24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8694-D7C9-4E33-8AB3-3ED9D23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CF0E-A657-46BB-8F3F-BAF30D99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0FEC-B6C6-42B7-8D52-95D0AD4C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B8257-1A0F-43F8-BFF7-B07E80FE50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