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1340"/>
        <c:axId val="49768980"/>
      </c:barChart>
      <c:catAx>
        <c:axId val="4171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8980"/>
        <c:crosses val="autoZero"/>
        <c:auto val="1"/>
        <c:lblAlgn val="ctr"/>
        <c:lblOffset val="100"/>
        <c:noMultiLvlLbl val="0"/>
      </c:catAx>
      <c:valAx>
        <c:axId val="49768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B07-31D6-4E6B-AECF-35B9E667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46C-4BB6-45C3-B998-30793D7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210-5D2F-45FC-926B-98272DFC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124-B6AE-485F-A1D2-300C672D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057-F300-43BD-B4C8-6C46B80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F0E-E063-4C23-B4E9-0B419CB3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E00-B014-4B11-9113-F295712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8C8-5A95-4417-8FC9-1D09F08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188-A5A6-47B9-B560-1CC64653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373-0C13-4969-B82C-4E1D22A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3E1-7EAE-4A76-9907-85673B0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9B6-ECCF-4C24-91DA-ACADA5A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B99E-D822-4AE1-ABAB-BA80672DC9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