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1729"/>
        <c:axId val="7001903"/>
      </c:barChart>
      <c:catAx>
        <c:axId val="5281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1903"/>
        <c:crosses val="autoZero"/>
        <c:auto val="1"/>
        <c:lblAlgn val="ctr"/>
        <c:lblOffset val="100"/>
        <c:noMultiLvlLbl val="0"/>
      </c:catAx>
      <c:valAx>
        <c:axId val="7001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1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F17-2363-4CDE-A27D-B5F1EF2F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B2B-F078-4E85-8F32-7A71DD8E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283-CAF4-4EE3-AF76-078D98E2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D3E-864E-4DBC-BA4A-BDB5EEC3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AA5-0B91-420B-A387-5109B8D3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41C-C247-4294-B08E-2632C1FE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319-3281-4481-8377-11759574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24E-61CF-4C30-A799-671FB749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B32-C87B-424F-A95A-3A9B1857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F11-D90D-4EAD-9ACA-7404563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ACE-BB14-4C28-A1B7-E702BE3D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91C-F7D2-4F5F-89E4-F2BA2FF1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8884A-3808-4B7E-A7CD-E6E1EB7CB9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