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149329"/>
        <c:axId val="89449726"/>
      </c:barChart>
      <c:catAx>
        <c:axId val="291493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449726"/>
        <c:crosses val="autoZero"/>
        <c:auto val="1"/>
        <c:lblAlgn val="ctr"/>
        <c:lblOffset val="100"/>
        <c:noMultiLvlLbl val="0"/>
      </c:catAx>
      <c:valAx>
        <c:axId val="894497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1493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9EA0-BA8F-44AE-8A05-4CE122B94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957C-F5E9-434D-935F-0EFDFB54E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95BC-E4F0-428D-8CE4-888170768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4F4E-2187-48F8-8366-D8AB3D3ED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26AB-1C3E-4A9F-BC80-3088687CF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C502-2503-4CB3-BB03-9E8D01F71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0FC3-BE12-435A-9341-DAB65758E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9A56-4DBF-4324-B9B5-0610F32C6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A8DE-12B3-4A09-9845-4169C0DC6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5DE8-CB65-45C7-9798-A8305F54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BF30-D4E9-4930-9D28-4C44911E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9F5B-C5A3-4493-8D2E-4582D0F3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8BADF6-3215-4947-BD44-B3400A369E2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