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95643"/>
        <c:axId val="7581065"/>
      </c:barChart>
      <c:catAx>
        <c:axId val="51295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1065"/>
        <c:crosses val="autoZero"/>
        <c:auto val="1"/>
        <c:lblAlgn val="ctr"/>
        <c:lblOffset val="100"/>
        <c:noMultiLvlLbl val="0"/>
      </c:catAx>
      <c:valAx>
        <c:axId val="7581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95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F29-FCBB-4E40-97D0-CEC56336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E09-2A46-4EE8-BF44-77F9C716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6F2-0C01-405C-A661-B404A017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DC7-ECDF-4719-8A41-3FC5D1C1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D94-A083-4B19-A943-EEB14391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337-142B-40EB-B5E1-DF83C282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5F4-34D3-4E70-982A-11564D07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B40-0083-43DC-8113-6BC0EF19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37B-895E-4C6E-9DE2-6CA4DDCF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73B-0D28-4D86-AA34-F3F3AE9E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BCA-82C6-4E21-B7A2-4E6BC28E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D5D-29B6-4AE3-A748-F8E614CC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3256F-960D-46FD-A895-4EE10D0747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