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76807"/>
        <c:axId val="34770155"/>
      </c:barChart>
      <c:catAx>
        <c:axId val="76276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70155"/>
        <c:crosses val="autoZero"/>
        <c:auto val="1"/>
        <c:lblAlgn val="ctr"/>
        <c:lblOffset val="100"/>
        <c:noMultiLvlLbl val="0"/>
      </c:catAx>
      <c:valAx>
        <c:axId val="34770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76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DA4-7CD9-4165-BC69-46891280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792-3450-4682-947B-91A9F80B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1BE-BBF6-4365-A50A-8F4AAE1D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FAF-FAC3-424A-A7A4-5A495614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A5C-4893-4AFF-A61F-00A3EAD3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EFA-F96D-4878-A580-6A0C4A9F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42F-22F0-43DD-9D75-FA51FBC4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9396-9617-44B4-86B6-F4DEA508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B4C-34E4-4A28-94E3-7B7C6AB7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EF3-0E5A-47CC-AE5B-1E2240D7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6D5-C69E-44D2-A9E2-18F91F93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8C5-B52D-4C56-ABC3-F704CC02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6FEB9-CDA6-43F3-89FE-48BBE5CB3B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