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645161"/>
        <c:axId val="93382421"/>
      </c:barChart>
      <c:catAx>
        <c:axId val="7164516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82421"/>
        <c:crosses val="autoZero"/>
        <c:auto val="1"/>
        <c:lblAlgn val="ctr"/>
        <c:lblOffset val="100"/>
        <c:noMultiLvlLbl val="0"/>
      </c:catAx>
      <c:valAx>
        <c:axId val="9338242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64516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64247-08F4-4CF7-82D8-B2A3109131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29D6-380A-4F3A-951A-DC858F3F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86ABF-596D-45CB-80BC-8B691715B1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311C-33D4-404C-AA5D-82688AB123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0B876-06A4-4293-96B5-493C1DB546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9779F-7C1C-44AC-BEC3-3307178F3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B658-9851-46E5-962E-A096AE2A0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E186A-60FF-49DD-B583-D5CA6C7A4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B3F2A9-797F-4F90-800D-1E67BE60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0D39F-B279-4025-848E-0BEA17A13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466E6-183A-44FB-985A-AD012D1D5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479F4-BFDB-4751-B94A-89AD52DE4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FD596A-A3A1-4C10-8D1D-390787ADA27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