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06147"/>
        <c:axId val="19520266"/>
      </c:barChart>
      <c:catAx>
        <c:axId val="42406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20266"/>
        <c:crosses val="autoZero"/>
        <c:auto val="1"/>
        <c:lblAlgn val="ctr"/>
        <c:lblOffset val="100"/>
        <c:noMultiLvlLbl val="0"/>
      </c:catAx>
      <c:valAx>
        <c:axId val="19520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06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7843-65C3-423B-A9D5-06E64B58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D57F-F007-4BDD-AC33-27CDF9CA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A99-0E84-41DB-8A19-6E1D7933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DE1-A15E-4409-A94F-4E3DAF36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0A36-8D0F-4D01-98F0-8782EDF9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0213-24AE-40E5-8F2B-286E6A63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D84-C3A5-4DE9-B9E9-611123F0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68E8-5104-4060-B220-31895038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E5C1-1C97-41F3-83BE-C608CA47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30A-3F7C-49CB-9334-C5F5CA31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CAA0-AC68-4C33-8345-74B7A16C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BF62-BA1A-4DF4-9BC7-ECCBC5EE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E752A-E103-431D-AD88-B993523500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