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1206"/>
        <c:axId val="44333120"/>
      </c:barChart>
      <c:catAx>
        <c:axId val="2501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33120"/>
        <c:crosses val="autoZero"/>
        <c:auto val="1"/>
        <c:lblAlgn val="ctr"/>
        <c:lblOffset val="100"/>
        <c:noMultiLvlLbl val="0"/>
      </c:catAx>
      <c:valAx>
        <c:axId val="44333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1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953-A017-49F5-953E-4547B6C4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8A8-88B5-42C5-8AFC-70C38DCC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C8E-22F8-482B-BEF0-9E0E9366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D42-AB66-47A1-9ECE-18A80CA7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7CC-8F37-4DE4-8EB8-CAE12934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8E1-0BD8-45FD-8646-B5DEDD68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AD9-8056-486A-87D4-D61204DE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061-8EEB-4464-8F68-59C48EAD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05C-510B-42DE-A986-14FB58C4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B76-B833-47BF-BCE5-2B56F6B0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992-D6AD-4E3B-8AD2-CD46762F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266-EC66-4E5B-835C-E50D1ECF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19BBE-73FD-4662-9D40-3B430C469A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