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73946"/>
        <c:axId val="41935885"/>
      </c:barChart>
      <c:catAx>
        <c:axId val="299739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35885"/>
        <c:crosses val="autoZero"/>
        <c:auto val="1"/>
        <c:lblAlgn val="ctr"/>
        <c:lblOffset val="100"/>
        <c:noMultiLvlLbl val="0"/>
      </c:catAx>
      <c:valAx>
        <c:axId val="419358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739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9668-970F-48CF-9D9C-B727651F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E9CD-55B6-4B56-9A20-D40BE6B8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F220-2D9F-4B8E-A6A4-387E8FA4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CFF0-FCA4-480B-B252-E39312C20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53CE-8822-445C-9AA9-D6C74C91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670C-E60E-4D8A-881D-C27F388F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EE63-8F68-4C7F-A949-BCBDC010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4D1C-F1CC-40C1-8EAF-3EAF5F8C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6C89-707D-4402-9972-3BD77392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8BE7-ACD4-4E55-B0F5-61A472E6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5F60-E4D3-4CDB-BD28-E3CC8942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CB2E-C75B-4B98-A4CC-3C91FDC9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A9C0F-DBB6-438E-B8A4-445524BD9C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