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0559"/>
        <c:axId val="43372757"/>
      </c:barChart>
      <c:catAx>
        <c:axId val="86505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72757"/>
        <c:crosses val="autoZero"/>
        <c:auto val="1"/>
        <c:lblAlgn val="ctr"/>
        <c:lblOffset val="100"/>
        <c:noMultiLvlLbl val="0"/>
      </c:catAx>
      <c:valAx>
        <c:axId val="433727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05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E5C-3881-4D73-9C07-B4734270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F268-F78D-46B7-A080-FE125E12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D18-FC1D-4B36-8C6D-5DFF230F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5CE-19A8-4CA9-B7E5-E6B9030D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FEA0-A0E6-4ED2-97AE-1289BD16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E1F-2291-4043-B8AA-66B48348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4958-8659-4956-A0B5-FC99ED7D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E913-FF3A-4FE4-ABB8-99D813D3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1E92-9D73-4B08-9516-2F02FDB1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336-2CB1-4CB3-AB6B-E84AD652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D5F1-CEE3-4950-8577-FF8EF255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E511-7044-4B1F-83F8-E16F7406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F864A-62EF-4EA7-9845-C0D7801816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