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84191"/>
        <c:axId val="11856011"/>
      </c:barChart>
      <c:catAx>
        <c:axId val="56284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56011"/>
        <c:crosses val="autoZero"/>
        <c:auto val="1"/>
        <c:lblAlgn val="ctr"/>
        <c:lblOffset val="100"/>
        <c:noMultiLvlLbl val="0"/>
      </c:catAx>
      <c:valAx>
        <c:axId val="11856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84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211-E6A4-4405-B975-789CDD62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C7E-E077-4957-97AB-2418F1D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1A8-2C01-43B8-AB01-993DC4AD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3E8-930B-4107-8B8D-EBEE3710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ACE-378B-4DCC-825B-E8A68500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E922-8176-4667-9FCA-2F9384A0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334-9BEC-4FE6-AFA4-B5A7159A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F62-13A4-4A85-8BA5-AE7C29F0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F6E3-E50E-435C-8519-5D83DBFB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8CF-3D40-4257-BA3F-D103D7B1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83D-4807-4D6B-B20F-495D1B9C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C327-475A-4BDA-8F1A-5905881F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2F3E9-2CB9-4F8C-B20E-41C643831A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