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78118"/>
        <c:axId val="22243321"/>
      </c:barChart>
      <c:catAx>
        <c:axId val="75578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3321"/>
        <c:crosses val="autoZero"/>
        <c:auto val="1"/>
        <c:lblAlgn val="ctr"/>
        <c:lblOffset val="100"/>
        <c:noMultiLvlLbl val="0"/>
      </c:catAx>
      <c:valAx>
        <c:axId val="22243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8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4D3-6166-40C9-A5AE-3B2766FB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CF1-0DBC-4E2C-9F62-A792BCB0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9A8-B2DE-477D-975D-109CE9CF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A5C-286C-42E7-AE61-E94E9E1A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AFB-C7F3-4258-A274-D617C84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C9C-6A0B-4234-B925-81D29369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901-3CC4-4675-ACEE-FA961C8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CEF-5D09-4B72-B7D0-A5CD1ED5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3A1-6F4F-4CD0-A18C-40A507A5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708-6B66-4D42-A4E4-B38E94C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2FC-5BDF-49C5-8A09-21C81DD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214-68DA-49FB-A096-C325340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E627E-32F1-462F-AF57-4C5E78D299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