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037424"/>
        <c:axId val="23586914"/>
      </c:barChart>
      <c:catAx>
        <c:axId val="890374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586914"/>
        <c:crosses val="autoZero"/>
        <c:auto val="1"/>
        <c:lblAlgn val="ctr"/>
        <c:lblOffset val="100"/>
        <c:noMultiLvlLbl val="0"/>
      </c:catAx>
      <c:valAx>
        <c:axId val="235869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374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F28E-9FD3-48C8-9EAE-632655E42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30DB-920B-4B9E-8B84-E9652144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B1C7-B67E-4ACD-8D35-C0A34D007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A34E-F969-4AC9-8046-74A98976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C3B3-CB2B-417C-9648-CEAED370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1978-C92E-4F84-B772-460ED9F7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685C-0518-4371-B9E5-D3DA4A61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7D58-7A6A-4AC8-A5ED-36C77EF8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4F68-84D8-41D5-A272-06C7EBF2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7E7F-745D-49C1-8F11-312BF6DE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A3ED-07F1-4F4A-9473-9728F955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53AB-8015-4F00-B3ED-049EEE52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21137-E3B2-4CBD-97BC-88610F2AEF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