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273907"/>
        <c:axId val="45244515"/>
      </c:barChart>
      <c:catAx>
        <c:axId val="73273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44515"/>
        <c:crosses val="autoZero"/>
        <c:auto val="1"/>
        <c:lblAlgn val="ctr"/>
        <c:lblOffset val="100"/>
        <c:noMultiLvlLbl val="0"/>
      </c:catAx>
      <c:valAx>
        <c:axId val="45244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73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8FF-EDCD-4DF1-A9D1-49C4AA8D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EED-7A9D-421B-8E85-F74F28DE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0B8-BE5C-4132-B1F6-DCB27D58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C65-7B43-44A5-B90E-4269A9B8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9B8-EE9B-4858-8DAC-C2EBFCCB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20B-E097-40A1-A4C6-AF1DF90B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3F3-BABE-426B-A10A-7DDFCEAB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8C3-8E42-4129-9C56-599CC97D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0B1-A5C5-4123-88CB-C7075D0E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F0B-EAA5-41BA-80C6-4E669C42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C1E-383F-43E4-BEDC-7590D476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DDE-58AF-4597-BF9A-002891EB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6C4D1-F586-46F6-B2AE-8073071ECC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