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18572"/>
        <c:axId val="83057990"/>
      </c:barChart>
      <c:catAx>
        <c:axId val="80718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57990"/>
        <c:crosses val="autoZero"/>
        <c:auto val="1"/>
        <c:lblAlgn val="ctr"/>
        <c:lblOffset val="100"/>
        <c:noMultiLvlLbl val="0"/>
      </c:catAx>
      <c:valAx>
        <c:axId val="83057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18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119-0AB6-464C-8714-8F92B83C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68D-C356-40FE-97D5-A6D51279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429-5200-4095-8F86-6680F067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7D5-9934-4E33-8AA3-9D07FF49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D1E-B0C2-4975-921F-7A95B684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B78-039C-41E5-B164-398A8334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BD9-E63B-4D8E-A3E5-9E392B9F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456-D9CB-4538-BD2E-17ADDB84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E17-7941-47AA-AB45-F5970AA1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9890-6EA5-4A47-8A4F-9C36A1C8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EBA-0541-46CF-8C37-706F3B59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535-DF38-495D-A828-11AF5F45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C1740-6424-4ACC-BBF3-3202686FF9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