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29372"/>
        <c:axId val="74547915"/>
      </c:barChart>
      <c:catAx>
        <c:axId val="23229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47915"/>
        <c:crosses val="autoZero"/>
        <c:auto val="1"/>
        <c:lblAlgn val="ctr"/>
        <c:lblOffset val="100"/>
        <c:noMultiLvlLbl val="0"/>
      </c:catAx>
      <c:valAx>
        <c:axId val="74547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29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E83-B0C1-44B9-801A-9DC44355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616-1137-41D2-8061-A73CECBF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656-A14A-4686-81F0-8E080FFC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57E-3A2E-4ABE-8099-11598AEE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D73-09F3-46FA-8C49-76D5338E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9570-12BE-4F77-AE9D-AA572A5D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FAD-27F2-4FB2-A669-F97E5B79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7E7-744F-4A22-8A0F-4E68D28A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42E-B3B1-4BA9-A4D4-8E956013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975D-6A05-4F8B-9A97-8E46EC1D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3FD-20A2-4D71-B86D-23788CEC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B59-F64C-4EFA-9431-42504179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57FE9-932C-426D-ADD9-DE8C9B4BC4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