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558164"/>
        <c:axId val="22958926"/>
      </c:barChart>
      <c:catAx>
        <c:axId val="555581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958926"/>
        <c:crosses val="autoZero"/>
        <c:auto val="1"/>
        <c:lblAlgn val="ctr"/>
        <c:lblOffset val="100"/>
        <c:noMultiLvlLbl val="0"/>
      </c:catAx>
      <c:valAx>
        <c:axId val="229589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5581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0C4B-AE81-4B7A-AACC-9029A2808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AD90-FF64-402F-B812-9CEA39A4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0B40-53FE-4EC4-998C-75E9B64DC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21FA-37CA-4536-8460-2BFCE22B5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8263-8E61-42EB-B75B-54AC7419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443E-EC7F-4B9B-A28F-C500160F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2EFF-CA83-4A58-8E2E-562E5F1D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8FD0-105D-48D7-AFF9-006A095A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5A81-A0E0-478B-A9C9-581CF8B7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F0A8-2F30-4F0A-90DE-91CB3439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1640-22BD-45F4-AAF8-26FC5F44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3084-2C47-4923-9C86-31F4F3AC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2CFB2B-C908-4F81-B93A-BD259DFA2D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