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59570"/>
        <c:axId val="34932157"/>
      </c:barChart>
      <c:catAx>
        <c:axId val="99159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32157"/>
        <c:crosses val="autoZero"/>
        <c:auto val="1"/>
        <c:lblAlgn val="ctr"/>
        <c:lblOffset val="100"/>
        <c:noMultiLvlLbl val="0"/>
      </c:catAx>
      <c:valAx>
        <c:axId val="34932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59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205-AC93-43EB-B353-E6EA03FF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E7F-93EF-475F-8F7E-EC3DFEBF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00F-F842-4F43-8841-D1FD583F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893-309C-49F4-BCEE-E488F5A6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862-CDFE-4ED4-BE67-41F1BE2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78C-1140-4541-8764-B7D8D3D2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A3C-3589-45B0-9A55-516E792F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729-D2B1-4368-809E-BF80219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A07-F8E6-4B5C-8CB3-EF44D83C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FBD-9FA8-4A83-A267-D7C239B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153-BC8D-41B3-80AB-3E7F051F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89F-F8DB-4613-B115-227ACA82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87C39-577F-4D04-8E03-BB71FD7F25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