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98487"/>
        <c:axId val="2653580"/>
      </c:barChart>
      <c:catAx>
        <c:axId val="60098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3580"/>
        <c:crosses val="autoZero"/>
        <c:auto val="1"/>
        <c:lblAlgn val="ctr"/>
        <c:lblOffset val="100"/>
        <c:noMultiLvlLbl val="0"/>
      </c:catAx>
      <c:valAx>
        <c:axId val="2653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98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2D6-5F61-4288-9E3F-D777DF86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65D-8930-4E19-A608-A676EB8D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230-CC76-45C3-A35B-C4B92E58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B8F-6D8B-4C48-9A9D-7C54E48B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1EA-1212-4AA3-82E5-F7B838E6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07F-31F0-4082-8A06-15DDCE82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D3D-8E74-4DF0-A1CD-9E368AF9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0CB-659A-4520-BC94-AD47EA84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302B-61D0-4297-8D5C-B32DFBBC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385-0EE5-44EC-828C-5F1970EA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D5E-2902-4E10-80D0-99A1B300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E0E-2406-428E-9F92-64098965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F61BB-796A-4834-BF5E-392E00CED1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