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31133"/>
        <c:axId val="89591417"/>
      </c:barChart>
      <c:catAx>
        <c:axId val="58231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1417"/>
        <c:crosses val="autoZero"/>
        <c:auto val="1"/>
        <c:lblAlgn val="ctr"/>
        <c:lblOffset val="100"/>
        <c:noMultiLvlLbl val="0"/>
      </c:catAx>
      <c:valAx>
        <c:axId val="89591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1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D23-5271-4E32-8207-571F32C9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674-38C2-4FA1-BA90-27CAB84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81E-3C65-4AA5-9178-61B51756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6BF-3F17-44E2-ADD9-DBBEDBB1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A09-BC64-40D3-9437-115EF379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DD0-00C5-48A6-BDAE-BD59317C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23B-9CAD-4DF4-BFB1-EC5CF56F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27E-3F9B-4F22-A9E0-D90504F1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710-6778-4773-83E9-A16BDA84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76E-93D4-4F4E-9BC5-0B59094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572-DD4B-41A1-A632-D4F6F1A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189-D1D8-4BD3-A762-70526CE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1AC7A-9AF8-4EB4-B579-2E334ED2C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