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82979"/>
        <c:axId val="9524036"/>
      </c:barChart>
      <c:catAx>
        <c:axId val="739829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4036"/>
        <c:crosses val="autoZero"/>
        <c:auto val="1"/>
        <c:lblAlgn val="ctr"/>
        <c:lblOffset val="100"/>
        <c:noMultiLvlLbl val="0"/>
      </c:catAx>
      <c:valAx>
        <c:axId val="95240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829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019B-5D42-44A0-AA97-FBEC9A26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F19-520C-457B-94B4-4CE1C6BA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346-F485-43C4-A58B-D58152EA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669-B14A-4C41-94BA-708ACC41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CB29-59A7-4059-935A-7A6AFED2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FE6B-57FE-4E5C-A73F-C77E12E0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F9F-713E-4162-B1A0-EA10D18E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A23-9519-4375-84A0-99B05CE7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B9D-6137-4BE3-81F5-2CA9A1D8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4D2-1AB9-490B-B5CC-0FC8D638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A58B-BE77-4386-B824-228E24E8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511-D883-4D07-8F5E-B3B71C41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33D44-4BE0-4316-B8D2-160FFF776B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