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850663"/>
        <c:axId val="12452095"/>
      </c:barChart>
      <c:catAx>
        <c:axId val="19850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452095"/>
        <c:crosses val="autoZero"/>
        <c:auto val="1"/>
        <c:lblAlgn val="ctr"/>
        <c:lblOffset val="100"/>
        <c:noMultiLvlLbl val="0"/>
      </c:catAx>
      <c:valAx>
        <c:axId val="12452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50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0513-A485-4307-9996-F99D863E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8D3-4F62-4E32-95F4-3F0B2735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48C-3B98-4365-9BA4-D10E2CED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B04-4931-44D8-9185-BE00DF5B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B77-45F8-47E4-8697-74569EC5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DAF-B5DC-456C-BB78-BDB48E16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B0A-999E-4F34-B544-F38B1FB7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AFE-8A29-4658-A249-5EA2CD51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7B99-70FB-4B19-B24F-15D3D746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E0C-4D67-46C6-96C3-3FD5265C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8E0-EB37-46D6-90A5-58FE9E4E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0D0-CE5B-4E77-A04E-FF0B084D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5EC84-24E3-47E8-9FD0-9A5FD826A8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