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36178"/>
        <c:axId val="28455532"/>
      </c:barChart>
      <c:catAx>
        <c:axId val="12136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55532"/>
        <c:crosses val="autoZero"/>
        <c:auto val="1"/>
        <c:lblAlgn val="ctr"/>
        <c:lblOffset val="100"/>
        <c:noMultiLvlLbl val="0"/>
      </c:catAx>
      <c:valAx>
        <c:axId val="28455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36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C4D-3636-4DB2-9118-07AB0E53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540-022C-43F4-90B8-4B864310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8B6-87DA-4802-8CC1-7992547F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2D3-ADEC-458E-8669-2C604230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C60-B6C4-4610-B406-7BD363D0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7D5-8F1B-4A9D-9294-AA4FCF08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47F-7BDF-402C-8B1F-ED5092E3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5EC-8F7B-4FD6-9C1B-67161163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6D5-E6DE-4281-BDB3-122FBD5A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94D-AB80-4F95-B58E-57FC4426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678-E844-4E29-A351-349E94EE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59C-ABAA-4509-9A22-CBA5D54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53A87-5A80-41FE-9F94-5BA1323BA8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