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46708"/>
        <c:axId val="68886979"/>
      </c:barChart>
      <c:catAx>
        <c:axId val="729467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86979"/>
        <c:crosses val="autoZero"/>
        <c:auto val="1"/>
        <c:lblAlgn val="ctr"/>
        <c:lblOffset val="100"/>
        <c:noMultiLvlLbl val="0"/>
      </c:catAx>
      <c:valAx>
        <c:axId val="688869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467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D249-0EE3-4ED0-AC14-754208D4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FED7-71A6-4A9A-A1CC-B37E63D1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0183-435D-4DBC-9065-D4467DCC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F76B-75E1-4425-AED6-9C7B0EE3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4BE1-7EB0-4F43-80B5-2EA3D7B1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4C48-2C01-49BF-894E-F52F845F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4335-9584-40AD-B8E1-EEEF02DD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322C-CC2A-4DCC-82C5-70BAFAFB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08B1-4617-4AF0-9669-BC870CD9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5EC-B8C4-47FF-827A-CEE9FB17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067F-B1FF-4400-8554-CB93363D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3CC9-7514-4A1F-9244-F6B3FED4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87398-706C-4858-9464-A69929D4EF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