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5734"/>
        <c:axId val="96346462"/>
      </c:barChart>
      <c:catAx>
        <c:axId val="4925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46462"/>
        <c:crosses val="autoZero"/>
        <c:auto val="1"/>
        <c:lblAlgn val="ctr"/>
        <c:lblOffset val="100"/>
        <c:noMultiLvlLbl val="0"/>
      </c:catAx>
      <c:valAx>
        <c:axId val="96346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5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83E-D5AB-4593-B867-E0B3E2D5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C55-3200-42A5-A793-C5EDE73A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661-BD46-49CC-9C5F-A68DB6B9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3D0-103F-4F89-8021-DF860A50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40A-6E48-4396-B365-42C36933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CA7-F20E-4F05-86D1-8B0FD8A4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A24-2BA9-4087-80E3-1B5BD79C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D73-0820-4F9C-A9D1-56E7ACD7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EEE-1354-4B08-8336-3DC56C29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43C-DEFC-4245-BD45-E8BE7513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FDB-AE72-4918-B137-113DF7CB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D9F-50B9-4D95-80E6-7D98B8BF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A88C0-A51A-471E-B664-67D2368C45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