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31146"/>
        <c:axId val="7724587"/>
      </c:barChart>
      <c:catAx>
        <c:axId val="89831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4587"/>
        <c:crosses val="autoZero"/>
        <c:auto val="1"/>
        <c:lblAlgn val="ctr"/>
        <c:lblOffset val="100"/>
        <c:noMultiLvlLbl val="0"/>
      </c:catAx>
      <c:valAx>
        <c:axId val="7724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1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FD7-23FC-4F13-919B-CBE72EEE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A0A-456E-436B-934C-2DCD2EA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AAF-78AF-4FAD-946E-2993D1C4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9EA-8733-469D-8F9C-F6CA66ED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A52-A5C8-44AC-93E1-A8B7787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817-7F63-46C7-8184-D805BAC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33-CC32-484E-A60A-A46A9B5E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2BF-B452-49A8-85C1-6BB15149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6EA-0409-4CED-A233-112C7F4A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ED6-32D6-402E-B320-23D331D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B82-C5A3-4382-A728-6B9D6B5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206-F5B8-4074-A664-97ED509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52DCF-91EF-41E3-939D-411F3423B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