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67395"/>
        <c:axId val="33711011"/>
      </c:barChart>
      <c:catAx>
        <c:axId val="56267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11011"/>
        <c:crosses val="autoZero"/>
        <c:auto val="1"/>
        <c:lblAlgn val="ctr"/>
        <c:lblOffset val="100"/>
        <c:noMultiLvlLbl val="0"/>
      </c:catAx>
      <c:valAx>
        <c:axId val="33711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7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8A0-FEE0-448D-A4CE-E1033525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6BE-6B92-49AE-9387-13DA5D7E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CCB-33CD-4D84-83A8-8EC966ED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C8C-7383-48D7-B34D-CD83B646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DD5-7A14-44A6-BBE6-C483F7EA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351-0B06-490B-876F-37B1048A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2AC-E0E8-4DFC-A747-88CD0538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08F-6DF0-433D-8261-0D8F704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A5C-7651-4855-BCB0-E59E784C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824-1CBA-4433-BC92-EF16A65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FC4-5B7E-4824-912E-9E3DC33D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435-8B84-4BD2-B090-96E83A49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588AB-43A6-4494-B301-2CC04B9F9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