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29600"/>
        <c:axId val="81475886"/>
      </c:barChart>
      <c:catAx>
        <c:axId val="32029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75886"/>
        <c:crosses val="autoZero"/>
        <c:auto val="1"/>
        <c:lblAlgn val="ctr"/>
        <c:lblOffset val="100"/>
        <c:noMultiLvlLbl val="0"/>
      </c:catAx>
      <c:valAx>
        <c:axId val="81475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29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BB1-6C9A-499B-B8EB-219347B0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0D6-BA7E-40F7-9104-930041E4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64A-2CAC-49A6-9379-9724E9AC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E6A-53AD-4B99-A333-C8CFF34A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A94-9BFA-49A5-A3E3-6A6F1C8E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D72-8BC2-4B22-917F-9BCA6C2B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9D7-A8CC-48B4-B383-038C7A15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0D8-B7E3-4303-8530-799D238C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043-3042-409B-89EC-6319BDEE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6D6-E423-4066-946F-A159E89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975-4B24-4019-BE84-406959B2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41A-55D4-4FA8-94AF-9E066D7F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B6114-D4E4-4784-AEF0-EDD91AB6EA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